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64DF-A439-41AD-A19D-76172FBF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8DA-1E2E-4634-A676-01F091C5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3FD-DE00-4574-ABDB-6EC24846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085E-F004-4B50-A12C-A1F3B9EA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B544-DAA9-415D-B4C4-48588F3C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8086-1196-489A-AA35-6AEAD0B2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FDAB-E56E-45B0-BE7C-B29AEB5E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A102-5AF9-4113-9C7B-BF7678AE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4098-989E-47ED-A27F-9612D616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9159-F75E-439A-A2A8-228568B6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BA4D-F651-4287-91A0-C8EB4107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EAD-E496-4271-B946-6D831EAC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961C-F5BD-46CF-A8E3-414A2619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56D3-8211-4AC1-B837-8A39EB03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BCFE-E6DE-4488-BEF8-E7D0ECDD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9FEA-5DC4-4114-8020-1B22F893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D23D-2015-462F-9656-672F7756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F98D-C1A1-4670-AB08-C3C3DDB2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97DA-FDEE-4CA8-8953-8A061E25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F60-214D-44A3-8218-0F14EA61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C5C-3FC3-4C51-B46D-D661F11B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3A05-54F7-4990-AD4F-D82B1B4E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2A6-318B-453C-9C3B-D9B67A7F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DE9E-853E-4C4C-84CC-B168B0F0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D502-3FEA-430F-B3B0-71CAE089FDF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2890-2BD6-499D-8E5B-14E993DB60F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аучно-методическое обеспечение концептуальной модели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Школа методического мастерств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733920" y="4800600"/>
            <a:ext cx="4952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омова Лариса Владимировна, заведующая информационно-методическим отдело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ородского методического центра по Советскому район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Единая методическая тема района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а 2010 – 2015 г.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ринципы выбора единой методической тем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туальность темы, значимость для системы образов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емственность (с предыдущей темой ОУ, с нынешней темой райо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рспективность т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правляе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иагностич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истем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сурсообеспеч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Как выбрать единую методическую тему ОУ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работы ОУ по предыдущей теме, выявление проблем образования в О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условий (статус ОУ, цели, задачи ОУ, характеристика контингента учащихся, перспективное планирование т.д.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ресурсов (кадровые, материально-технические, информационные и другие ресурс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18288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1828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Формы организации методической работы над единой темо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кетирование учителей для деятельного осмысления целей предстоящей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здание творческих и проблемных груп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ведение методических недель по единой научно-методической 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бота временных инициативных групп по подготовке к педагогическим и методическим советам, семинар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амообраз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ытно-экспериментальная раб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онсультирование, анкетир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 уч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ПК учителей, учащих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ворческие отчеты учител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Алгоритм деятельности педагогического коллектива по реализации методической темы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ализ психолого-педагогической литературы по методической теме образовательного учреж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я педагогического опыта коллектива по подготовке к реализации методической темы (диагностика, выявление проблемных зон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труирование модели реализации методической темы (определение подтем каждого этапа, задач, программы реализации темы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работка содержания образовательной среды, создание банка валидных диагност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робация и корректировка иде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дрение в массовую практи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е передового педагогического опы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Нормативно-правовое обеспечение деятельности методической службы ОУ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кон РФ «Об образовани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иповое положение об общеобразовательном учрежд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каз Министерства образования РФ №90-М от 16.08.94 (определяет содержательную сферу методической работы в различных областях деятельност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став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грамма развития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разовательная программа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одовой план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Локальные ак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педагогическом сове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методическом сове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методическом объедин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творческой группе учите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научно-практической конференции и друг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0"/>
            <a:ext cx="6934320" cy="65530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16600" y="38088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Маркети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образовательных услу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286000"/>
            <a:ext cx="2514600" cy="228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07200" y="2895480"/>
            <a:ext cx="225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правленческ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ординацион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функ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1143000"/>
            <a:ext cx="4876920" cy="0"/>
          </a:xfrm>
          <a:prstGeom prst="line">
            <a:avLst/>
          </a:prstGeom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1143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715000" y="1143000"/>
            <a:ext cx="144792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1143000"/>
            <a:ext cx="152424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143000"/>
            <a:ext cx="0" cy="11430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962520" y="4572000"/>
            <a:ext cx="457200" cy="2057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3962520"/>
            <a:ext cx="1981080" cy="914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943600" y="2971800"/>
            <a:ext cx="2057400" cy="380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495680"/>
            <a:ext cx="1143000" cy="18288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57040" y="4114800"/>
            <a:ext cx="1600200" cy="144792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143000" y="3200400"/>
            <a:ext cx="2286000" cy="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5840" y="121932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Диагностик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аналит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98720" y="13716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Формирую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76680" y="2133720"/>
            <a:ext cx="12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Информ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цио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01360" y="2057400"/>
            <a:ext cx="16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Диагностик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аттест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цио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68800" y="335268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Проектировоч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конструк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8680" y="480060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Учеб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1120" y="541008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Науч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6040" y="5105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Внедрен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920" y="3276720"/>
            <a:ext cx="188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социаль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психологиче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поддерж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6172200"/>
            <a:ext cx="320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ункциональн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Функции методической служб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формацион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беспечение педагогов профессиональной информаци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агностико-аналит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диагностика и анализ учебно-воспитательного процесс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рмирующа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помощь, участие в разработке инновационных программ, методик, учебно-методических комплект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агностико-аттестацион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выявление, поддержка и распространение управленческого и педагогического опы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ектировочно-конструктив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проектирование индивидуальной траектории профессионального развития педагога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ебно-метод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методическое сопровождение предметных област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метод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рганизация научно-исследовательской работы ОУ, поддержка экспериментальной работы педагог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недрен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тбор, внедрение и тиражирование педагогических материалов; организация и проведение семинаров, конференций, практикум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ункция социально-педагогической поддерж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рганизация индивидуального консультирования и профессиональной поддержки педагогов; повышения квалификации педагогических кадров; помощь в проведении профессиональных конкурс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адачи методической рабо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ышение уровня владения педагогическими знаниям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учение и использование педагогами современных педагогических технологий, методик, приемов и способов успешного обучения и воспита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витие у учителей интереса, потребности к формированию и совершенствованию умения заниматься творческой педагогической деятельностью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ышение уровня педагогического мастерства, в том числе педагогической техни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здание условий и выработка у педагогов потребности в самообразован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рмирование и развитие устойчивых профессиональных взглядов и ценност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учение и использование на практике современных способов диагностирования ученической успешности, методик воспитания, саморазвития, самосовершенствования, самореализац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держка и сопровождение педагогов, разрабатывающих и реализующих авторские программы, курсы, методики, пособ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адачи методической рабо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ционное обеспечение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едрение в практику работы с учащимися и педагогами научной организации труда (НОТ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и поддержка созидательной, конструктивной педагогической сред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изация и поддержка экспериментальной и инновационной деятельности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ьзование разнообразных стимулов, способов и организационных решений для повышения квалификации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условий для зарождения, развития, объективной оценки и широкого использования ценностного педагогического опы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изация, стимулирование, содействие общественно-педагогической деятельности педагог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0"/>
            <a:ext cx="6934320" cy="65530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12600" y="38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286000"/>
            <a:ext cx="2514600" cy="228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32200" y="2666880"/>
            <a:ext cx="182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Услов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успеш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уществ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методиче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1143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715000" y="1143000"/>
            <a:ext cx="144792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1143000"/>
            <a:ext cx="152424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0"/>
            <a:ext cx="0" cy="22096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962520" y="4572000"/>
            <a:ext cx="457200" cy="2057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4191120"/>
            <a:ext cx="1981080" cy="914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867280" y="2743200"/>
            <a:ext cx="2057400" cy="380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648320"/>
            <a:ext cx="1143000" cy="18288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057040" y="4114800"/>
            <a:ext cx="1600200" cy="144792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143000" y="3200400"/>
            <a:ext cx="2286000" cy="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914400"/>
            <a:ext cx="181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блемно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диагностическ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одх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64240" y="838080"/>
            <a:ext cx="155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рганизаци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правл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спех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0280" y="2157480"/>
            <a:ext cx="193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Индивидуализац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правленческ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действ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88120" y="20811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Встреч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лан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3124080"/>
            <a:ext cx="198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Стимулирование в процесс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педагогиче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работы и по результатам е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4724280"/>
            <a:ext cx="1895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Использова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преимуще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микрогруппов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раб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7680" y="5257800"/>
            <a:ext cx="1846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Ресурс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беспеч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бразователь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це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7040" y="5129280"/>
            <a:ext cx="171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Индивидуа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ект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31440" y="3300480"/>
            <a:ext cx="1604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Реализац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инцип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едагогическ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оддерж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61722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учно-методическое обеспечение мод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ланирование работы по реализации единой методической темы (этапы работы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иагностический, _____/_______ учебный г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447920"/>
            <a:ext cx="274320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нализ затруднений учителе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стояния УВ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явление противоречи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уждающихся в ликвид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1523880"/>
            <a:ext cx="28195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явление проблемы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боснование ее актуа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грамма реализации еди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ой те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19051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581280"/>
            <a:ext cx="2819520" cy="2590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учение коллективом теори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блемы на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едсовет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седаниях метод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ве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седаниях М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еминар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их оператив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индивидуальной и группов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боте с учи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работе по самообразован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оретическое исследование проблемы, ____/____ 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6483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3962520"/>
            <a:ext cx="274320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копление теорет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атериала по еди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ой теме (проблем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ланирование работы по реализации единой методической темы (этапы работы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актическое исследование проблемы, _____/____ учебный г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447920"/>
            <a:ext cx="3200400" cy="19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целью практиче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правленности этой работ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водятс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матические педсове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еминары-практику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ые уроки, внекласс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роприятия,взаимопосещ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ро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1523880"/>
            <a:ext cx="281952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вершенствование учебно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спитательного процесс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рмирование ППО в рам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колы по теме (проблем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2362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495680"/>
            <a:ext cx="3276720" cy="15242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учно-практическ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нференц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тупления с самообобщение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ыта рабо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ворческие отче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дагогические выстав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581280"/>
            <a:ext cx="636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ведение итогов работы по проблеме, пропаганда ППО, ____/_____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5181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4495680"/>
            <a:ext cx="2743200" cy="1447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стематизация накопленн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атериа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дание педагог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льманаха по проблем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 Сомова</cp:lastModifiedBy>
  <dcterms:modified xsi:type="dcterms:W3CDTF">2010-10-26T20:58:55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